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a3e"/>
              </a:solidFill>
              <a:latin typeface="Stone Sans ITC TT-Sem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a3e"/>
              </a:solidFill>
              <a:latin typeface="Stone Sans ITC TT-Sem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a3e"/>
              </a:solidFill>
              <a:latin typeface="Stone Sans ITC TT-Sem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a3e"/>
              </a:solidFill>
              <a:latin typeface="Stone Sans ITC TT-Sem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a3e"/>
              </a:solidFill>
              <a:latin typeface="Stone Sans ITC TT-Sem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a3e"/>
              </a:solidFill>
              <a:latin typeface="Stone Sans ITC TT-Sem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a3e"/>
              </a:solidFill>
              <a:latin typeface="Stone Sans ITC TT-Sem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a3e"/>
              </a:solidFill>
              <a:latin typeface="Stone Sans ITC TT-Sem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a3e"/>
              </a:solidFill>
              <a:latin typeface="Stone Sans ITC TT-Sem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a3e"/>
              </a:solidFill>
              <a:latin typeface="Stone Sans ITC TT-Sem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250920" y="907920"/>
            <a:ext cx="649080" cy="64944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113040" y="6424560"/>
            <a:ext cx="7085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000" spc="-1" strike="noStrike">
                <a:solidFill>
                  <a:srgbClr val="000000"/>
                </a:solidFill>
                <a:latin typeface="Arial"/>
              </a:rPr>
              <a:t>OHIM-ITFMD-ITA – WIPO/SDWG - XML Task Forces’Informal Meeting, ST66 Implementations at OHIM - October 23, 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857360" y="6424560"/>
            <a:ext cx="131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000" spc="-1" strike="noStrike">
                <a:solidFill>
                  <a:srgbClr val="000000"/>
                </a:solidFill>
                <a:latin typeface="Arial"/>
              </a:rPr>
              <a:t>Slide </a:t>
            </a:r>
            <a:fld id="{13ECAFE6-5D6D-4FA0-BB91-9E3BB83459E0}" type="slidenum">
              <a:rPr b="0" lang="en-I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IE" sz="1000" spc="-1" strike="noStrike">
                <a:solidFill>
                  <a:srgbClr val="000000"/>
                </a:solidFill>
                <a:latin typeface="Arial"/>
              </a:rPr>
              <a:t> of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b3a3e"/>
                </a:solidFill>
                <a:latin typeface="Stone Sans ITC TT-Semi"/>
              </a:rPr>
              <a:t>Click to edit the title text format</a:t>
            </a:r>
            <a:endParaRPr b="0" lang="en-US" sz="4400" spc="-1" strike="noStrike">
              <a:solidFill>
                <a:srgbClr val="3b3a3e"/>
              </a:solidFill>
              <a:latin typeface="Stone Sans ITC TT-Sem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09480" indent="-457200">
              <a:spcBef>
                <a:spcPts val="1400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adley Hand ITC TT-Bold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  <a:p>
            <a:pPr lvl="1" marL="1052640" indent="-457200">
              <a:spcBef>
                <a:spcPts val="1400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adley Hand ITC TT-Bold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  <a:p>
            <a:pPr lvl="2" marL="1481040" indent="-457200">
              <a:spcBef>
                <a:spcPts val="1400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adley Hand ITC TT-Bold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  <a:p>
            <a:pPr lvl="3" marL="1917720" indent="-457200">
              <a:spcBef>
                <a:spcPts val="1400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adley Hand ITC TT-Bold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  <a:p>
            <a:pPr lvl="4" marL="2349360" indent="-457200">
              <a:spcBef>
                <a:spcPts val="1400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adley Hand ITC TT-Bold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  <a:p>
            <a:pPr lvl="5" marL="2349360" indent="-457200">
              <a:spcBef>
                <a:spcPts val="700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adley Hand ITC TT-Bold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  <a:p>
            <a:pPr lvl="6" marL="2349360" indent="-457200">
              <a:spcBef>
                <a:spcPts val="700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adley Hand ITC TT-Bold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hyperlink" Target="http://tm-xml.org/TM-XML/TM-XML_xml/TM-XML_Implementations.xml" TargetMode="External"/><Relationship Id="rId4" Type="http://schemas.openxmlformats.org/officeDocument/2006/relationships/image" Target="../media/image4.png"/><Relationship Id="rId5" Type="http://schemas.openxmlformats.org/officeDocument/2006/relationships/hyperlink" Target="http://oami.europa.eu/en/erenew.htm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539640" y="3213000"/>
            <a:ext cx="8061120" cy="722160"/>
            <a:chOff x="539640" y="3213000"/>
            <a:chExt cx="8061120" cy="722160"/>
          </a:xfrm>
        </p:grpSpPr>
        <p:sp>
          <p:nvSpPr>
            <p:cNvPr id="42" name=""/>
            <p:cNvSpPr/>
            <p:nvPr/>
          </p:nvSpPr>
          <p:spPr>
            <a:xfrm>
              <a:off x="609480" y="3213000"/>
              <a:ext cx="7991280" cy="649440"/>
            </a:xfrm>
            <a:prstGeom prst="rect">
              <a:avLst/>
            </a:prstGeom>
            <a:gradFill rotWithShape="0">
              <a:gsLst>
                <a:gs pos="0">
                  <a:srgbClr val="fff200"/>
                </a:gs>
                <a:gs pos="100000">
                  <a:srgbClr val="4d0808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39640" y="3286080"/>
              <a:ext cx="7991280" cy="649080"/>
            </a:xfrm>
            <a:prstGeom prst="rect">
              <a:avLst/>
            </a:prstGeom>
            <a:gradFill rotWithShape="0">
              <a:gsLst>
                <a:gs pos="0">
                  <a:srgbClr val="cacd9e"/>
                </a:gs>
                <a:gs pos="50000">
                  <a:srgbClr val="ffffff"/>
                </a:gs>
                <a:gs pos="100000">
                  <a:srgbClr val="cacd9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" name=""/>
          <p:cNvGrpSpPr/>
          <p:nvPr/>
        </p:nvGrpSpPr>
        <p:grpSpPr>
          <a:xfrm>
            <a:off x="539640" y="4005360"/>
            <a:ext cx="8061120" cy="722160"/>
            <a:chOff x="539640" y="4005360"/>
            <a:chExt cx="8061120" cy="722160"/>
          </a:xfrm>
        </p:grpSpPr>
        <p:sp>
          <p:nvSpPr>
            <p:cNvPr id="45" name=""/>
            <p:cNvSpPr/>
            <p:nvPr/>
          </p:nvSpPr>
          <p:spPr>
            <a:xfrm>
              <a:off x="609480" y="4005360"/>
              <a:ext cx="7991280" cy="649440"/>
            </a:xfrm>
            <a:prstGeom prst="rect">
              <a:avLst/>
            </a:prstGeom>
            <a:gradFill rotWithShape="0">
              <a:gsLst>
                <a:gs pos="0">
                  <a:srgbClr val="fff200"/>
                </a:gs>
                <a:gs pos="100000">
                  <a:srgbClr val="4d0808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39640" y="4078440"/>
              <a:ext cx="7991280" cy="649080"/>
            </a:xfrm>
            <a:prstGeom prst="rect">
              <a:avLst/>
            </a:prstGeom>
            <a:gradFill rotWithShape="0">
              <a:gsLst>
                <a:gs pos="0">
                  <a:srgbClr val="cacd9e"/>
                </a:gs>
                <a:gs pos="50000">
                  <a:srgbClr val="ffffff"/>
                </a:gs>
                <a:gs pos="100000">
                  <a:srgbClr val="cacd9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"/>
          <p:cNvGrpSpPr/>
          <p:nvPr/>
        </p:nvGrpSpPr>
        <p:grpSpPr>
          <a:xfrm>
            <a:off x="539640" y="4797360"/>
            <a:ext cx="8061120" cy="722160"/>
            <a:chOff x="539640" y="4797360"/>
            <a:chExt cx="8061120" cy="722160"/>
          </a:xfrm>
        </p:grpSpPr>
        <p:sp>
          <p:nvSpPr>
            <p:cNvPr id="48" name=""/>
            <p:cNvSpPr/>
            <p:nvPr/>
          </p:nvSpPr>
          <p:spPr>
            <a:xfrm>
              <a:off x="609480" y="4797360"/>
              <a:ext cx="7991280" cy="649440"/>
            </a:xfrm>
            <a:prstGeom prst="rect">
              <a:avLst/>
            </a:prstGeom>
            <a:gradFill rotWithShape="0">
              <a:gsLst>
                <a:gs pos="0">
                  <a:srgbClr val="fff200"/>
                </a:gs>
                <a:gs pos="100000">
                  <a:srgbClr val="4d0808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39640" y="4870440"/>
              <a:ext cx="7991280" cy="649080"/>
            </a:xfrm>
            <a:prstGeom prst="rect">
              <a:avLst/>
            </a:prstGeom>
            <a:gradFill rotWithShape="0">
              <a:gsLst>
                <a:gs pos="0">
                  <a:srgbClr val="cacd9e"/>
                </a:gs>
                <a:gs pos="50000">
                  <a:srgbClr val="ffffff"/>
                </a:gs>
                <a:gs pos="100000">
                  <a:srgbClr val="cacd9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539640" y="5589720"/>
            <a:ext cx="8061120" cy="722160"/>
            <a:chOff x="539640" y="5589720"/>
            <a:chExt cx="8061120" cy="722160"/>
          </a:xfrm>
        </p:grpSpPr>
        <p:sp>
          <p:nvSpPr>
            <p:cNvPr id="51" name=""/>
            <p:cNvSpPr/>
            <p:nvPr/>
          </p:nvSpPr>
          <p:spPr>
            <a:xfrm>
              <a:off x="609480" y="5589720"/>
              <a:ext cx="7991280" cy="649440"/>
            </a:xfrm>
            <a:prstGeom prst="rect">
              <a:avLst/>
            </a:prstGeom>
            <a:gradFill rotWithShape="0">
              <a:gsLst>
                <a:gs pos="0">
                  <a:srgbClr val="fff200"/>
                </a:gs>
                <a:gs pos="100000">
                  <a:srgbClr val="4d0808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9640" y="5662800"/>
              <a:ext cx="7991280" cy="649080"/>
            </a:xfrm>
            <a:prstGeom prst="rect">
              <a:avLst/>
            </a:prstGeom>
            <a:gradFill rotWithShape="0">
              <a:gsLst>
                <a:gs pos="0">
                  <a:srgbClr val="cacd9e"/>
                </a:gs>
                <a:gs pos="50000">
                  <a:srgbClr val="ffffff"/>
                </a:gs>
                <a:gs pos="100000">
                  <a:srgbClr val="cacd9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539640" y="2421000"/>
            <a:ext cx="8061120" cy="722160"/>
            <a:chOff x="539640" y="2421000"/>
            <a:chExt cx="8061120" cy="722160"/>
          </a:xfrm>
        </p:grpSpPr>
        <p:sp>
          <p:nvSpPr>
            <p:cNvPr id="54" name=""/>
            <p:cNvSpPr/>
            <p:nvPr/>
          </p:nvSpPr>
          <p:spPr>
            <a:xfrm>
              <a:off x="609480" y="2421000"/>
              <a:ext cx="7991280" cy="649440"/>
            </a:xfrm>
            <a:prstGeom prst="rect">
              <a:avLst/>
            </a:prstGeom>
            <a:gradFill rotWithShape="0">
              <a:gsLst>
                <a:gs pos="0">
                  <a:srgbClr val="fff200"/>
                </a:gs>
                <a:gs pos="100000">
                  <a:srgbClr val="4d0808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39640" y="2494080"/>
              <a:ext cx="7991280" cy="649080"/>
            </a:xfrm>
            <a:prstGeom prst="rect">
              <a:avLst/>
            </a:prstGeom>
            <a:gradFill rotWithShape="0">
              <a:gsLst>
                <a:gs pos="0">
                  <a:srgbClr val="cacd9e"/>
                </a:gs>
                <a:gs pos="50000">
                  <a:srgbClr val="ffffff"/>
                </a:gs>
                <a:gs pos="100000">
                  <a:srgbClr val="cacd9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541440" y="1627200"/>
            <a:ext cx="8061120" cy="722160"/>
            <a:chOff x="541440" y="1627200"/>
            <a:chExt cx="8061120" cy="722160"/>
          </a:xfrm>
        </p:grpSpPr>
        <p:sp>
          <p:nvSpPr>
            <p:cNvPr id="57" name=""/>
            <p:cNvSpPr/>
            <p:nvPr/>
          </p:nvSpPr>
          <p:spPr>
            <a:xfrm>
              <a:off x="611280" y="1627200"/>
              <a:ext cx="7991280" cy="649440"/>
            </a:xfrm>
            <a:prstGeom prst="rect">
              <a:avLst/>
            </a:prstGeom>
            <a:gradFill rotWithShape="0">
              <a:gsLst>
                <a:gs pos="0">
                  <a:srgbClr val="fff200"/>
                </a:gs>
                <a:gs pos="100000">
                  <a:srgbClr val="4d0808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41440" y="1700280"/>
              <a:ext cx="7991280" cy="649080"/>
            </a:xfrm>
            <a:prstGeom prst="rect">
              <a:avLst/>
            </a:prstGeom>
            <a:gradFill rotWithShape="0">
              <a:gsLst>
                <a:gs pos="0">
                  <a:srgbClr val="cacd9e"/>
                </a:gs>
                <a:gs pos="50000">
                  <a:srgbClr val="ffffff"/>
                </a:gs>
                <a:gs pos="100000">
                  <a:srgbClr val="cacd9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1547640" y="907920"/>
            <a:ext cx="7272360" cy="576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76360" y="932040"/>
            <a:ext cx="71629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.66 Implementations at OHI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9400" y="1837440"/>
            <a:ext cx="781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TM-Search Web Services: Trade Mark Search and Data Retrieval Servic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9040" y="2629800"/>
            <a:ext cx="498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Nice Classification Term Information Exchan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86520" y="3421800"/>
            <a:ext cx="401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OHIM Community Trade Mark Key-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6880" y="5798520"/>
            <a:ext cx="29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OHIM B2B E-Filing Serv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2280" y="4941000"/>
            <a:ext cx="78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EuroClass-Term Information Exchange (Verification-Validation-Translatio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7240" y="4214160"/>
            <a:ext cx="24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OHIM CTM-Downlo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332000" y="907920"/>
            <a:ext cx="7561080" cy="576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900000" y="907920"/>
            <a:ext cx="820908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.66 Based Trade Mark Retrieval Web Servic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11280" y="1846440"/>
            <a:ext cx="8064360" cy="64764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11280" y="2062080"/>
            <a:ext cx="8064360" cy="7192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66"/>
              </a:gs>
              <a:gs pos="50000">
                <a:srgbClr val="ffffff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55640" y="1797120"/>
            <a:ext cx="770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Trade Mark Retrieval 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55640" y="2206800"/>
            <a:ext cx="806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</a:rPr>
              <a:t>http://demo.oami.europa.eu/trademark/data/EM500000000000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611280" y="2852640"/>
            <a:ext cx="8208720" cy="984240"/>
            <a:chOff x="611280" y="2852640"/>
            <a:chExt cx="8208720" cy="984240"/>
          </a:xfrm>
        </p:grpSpPr>
        <p:sp>
          <p:nvSpPr>
            <p:cNvPr id="74" name=""/>
            <p:cNvSpPr/>
            <p:nvPr/>
          </p:nvSpPr>
          <p:spPr>
            <a:xfrm>
              <a:off x="611280" y="2901960"/>
              <a:ext cx="8064360" cy="64764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11280" y="3117960"/>
              <a:ext cx="8064360" cy="71892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ff66"/>
                </a:gs>
                <a:gs pos="50000">
                  <a:srgbClr val="ffffff"/>
                </a:gs>
                <a:gs pos="100000">
                  <a:srgbClr val="ffff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55640" y="2852640"/>
              <a:ext cx="770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600" spc="-1" strike="noStrike">
                  <a:solidFill>
                    <a:srgbClr val="ffffff"/>
                  </a:solidFill>
                  <a:latin typeface="Arial"/>
                </a:rPr>
                <a:t>Trade Mark Image Retrieval Servi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55640" y="3262320"/>
              <a:ext cx="8064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600" spc="-1" strike="noStrike">
                  <a:solidFill>
                    <a:srgbClr val="000000"/>
                  </a:solidFill>
                  <a:latin typeface="Arial"/>
                </a:rPr>
                <a:t>http://demo.oami.europa.eu/trademark/image/5000000000000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611280" y="3933720"/>
            <a:ext cx="8208720" cy="984240"/>
            <a:chOff x="611280" y="3933720"/>
            <a:chExt cx="8208720" cy="984240"/>
          </a:xfrm>
        </p:grpSpPr>
        <p:sp>
          <p:nvSpPr>
            <p:cNvPr id="79" name=""/>
            <p:cNvSpPr/>
            <p:nvPr/>
          </p:nvSpPr>
          <p:spPr>
            <a:xfrm>
              <a:off x="611280" y="3983040"/>
              <a:ext cx="8064360" cy="64764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11280" y="4199040"/>
              <a:ext cx="8064360" cy="71892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ff66"/>
                </a:gs>
                <a:gs pos="50000">
                  <a:srgbClr val="ffffff"/>
                </a:gs>
                <a:gs pos="100000">
                  <a:srgbClr val="ffff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55640" y="3933720"/>
              <a:ext cx="770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600" spc="-1" strike="noStrike">
                  <a:solidFill>
                    <a:srgbClr val="ffffff"/>
                  </a:solidFill>
                  <a:latin typeface="Arial"/>
                </a:rPr>
                <a:t>Applicant Information Retrieval Servi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55640" y="4343400"/>
              <a:ext cx="8064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600" spc="-1" strike="noStrike">
                  <a:solidFill>
                    <a:srgbClr val="000000"/>
                  </a:solidFill>
                  <a:latin typeface="Arial"/>
                </a:rPr>
                <a:t>http://demo.oami.europa.eu/trademark/applicant/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611280" y="5013360"/>
            <a:ext cx="8208720" cy="984240"/>
            <a:chOff x="611280" y="5013360"/>
            <a:chExt cx="8208720" cy="984240"/>
          </a:xfrm>
        </p:grpSpPr>
        <p:sp>
          <p:nvSpPr>
            <p:cNvPr id="84" name=""/>
            <p:cNvSpPr/>
            <p:nvPr/>
          </p:nvSpPr>
          <p:spPr>
            <a:xfrm>
              <a:off x="611280" y="5062680"/>
              <a:ext cx="8064360" cy="64764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11280" y="5278320"/>
              <a:ext cx="8064360" cy="7192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ff66"/>
                </a:gs>
                <a:gs pos="50000">
                  <a:srgbClr val="ffffff"/>
                </a:gs>
                <a:gs pos="100000">
                  <a:srgbClr val="ffff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55640" y="5013360"/>
              <a:ext cx="770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600" spc="-1" strike="noStrike">
                  <a:solidFill>
                    <a:srgbClr val="ffffff"/>
                  </a:solidFill>
                  <a:latin typeface="Arial"/>
                </a:rPr>
                <a:t>Representative Information Retrieval Servi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640" y="5423040"/>
              <a:ext cx="8064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600" spc="-1" strike="noStrike">
                  <a:solidFill>
                    <a:srgbClr val="000000"/>
                  </a:solidFill>
                  <a:latin typeface="Arial"/>
                </a:rPr>
                <a:t>http://demo.oami.europa.eu/trademark/representative/1184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6869880" y="1477800"/>
            <a:ext cx="184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cc0000"/>
                </a:solidFill>
                <a:latin typeface="Comic Sans MS"/>
              </a:rPr>
              <a:t>Test - Exam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053160" y="6021360"/>
            <a:ext cx="584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cc0000"/>
                </a:solidFill>
                <a:latin typeface="Comic Sans MS"/>
              </a:rPr>
              <a:t>Note: Only Authorized IP Addresses are Allowed to Use these Web 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643280" y="2133720"/>
            <a:ext cx="4176720" cy="3456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2133720"/>
            <a:ext cx="4176720" cy="3456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547640" y="907920"/>
            <a:ext cx="7272360" cy="576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692360" y="932040"/>
            <a:ext cx="69469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 &amp;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41440" y="2349360"/>
            <a:ext cx="3743280" cy="30243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59280" y="2349360"/>
            <a:ext cx="3743280" cy="30243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4T19:21:40Z</dcterms:created>
  <dc:creator>Alexandre TRAN</dc:creator>
  <dc:description/>
  <dc:language>en-US</dc:language>
  <cp:lastModifiedBy>Alexandre TRAN</cp:lastModifiedBy>
  <dcterms:modified xsi:type="dcterms:W3CDTF">2007-10-23T07:04:51Z</dcterms:modified>
  <cp:revision>54</cp:revision>
  <dc:subject/>
  <dc:title>Slide 1</dc:title>
</cp:coreProperties>
</file>